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3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F87-D9FE-4250-A9D9-82CCA5BF9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EE93-48E3-44FE-A378-11686DCA9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AF1-9641-460E-BF10-E41D9333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7CE-1463-4ACD-BEA3-262C4948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9D8-3F70-428E-8F45-BA4E52B5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5D9-2B5C-4BE2-96CE-E74DCB38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9A90-9348-4FC8-BF9F-2257B33A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4089-E798-4C18-B0D2-6BD2623E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3A26-6F58-4D1A-BB32-9C4FA90F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D130-59A9-4836-9425-60D8635F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0D15-261F-4D77-972A-2FD5526F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08D1-0CBE-4379-9BBB-00D80FB8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202-932A-4D81-BC3B-D133817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4EA-FF4A-4664-A5A1-51C544E0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37E4-A343-4CAA-8E9A-93D6B03D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4579-19A9-4E45-B0B2-880932FB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2B87-507B-4920-81B3-974F45B0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3C2C-63A8-4D8E-B27A-97CC758B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F7EA-BF42-46EB-ADCA-FE50F7B1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8CC54-2025-4338-B7D8-BBA5AEDA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741E-7E50-40E9-8756-86F6CE23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8A86-BBCF-4CF5-B758-91F1BB0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4F40-C62D-45C2-9E61-5F17B913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3DA5-FFE5-4C2F-B7DD-FBBED584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EFD-ABF6-4AF2-A9FB-B60E91BA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9D215-2244-4FDE-B715-4DFB8288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1756-2BCC-43E2-A4B6-E967FF6A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917F-A52B-4871-B574-2985F0BE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1A80-3842-4535-9572-63DDAF34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26F3-B5B8-4EEA-B091-C8086E03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9B69-43E5-4D6D-96D1-8556C161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BD8A-EE6D-42E4-8B24-1D4F6272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E3E47-6202-4E7C-9F36-AA378C60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C1E65-3BE3-49FF-8407-6A30B835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A2F96-D830-4ED3-9F11-3C59D847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4A2-6405-4D9F-91D1-8750254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9CC5-6802-487B-86E5-36D62B25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AE22-7840-4131-904A-DA160341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14D9-35E4-4AA2-AF15-DD84D1FB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8DC3-A3E1-438A-A308-3A3D0283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8763-6092-4CDC-9955-7CFBAC72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B0CA-E9CF-40C3-A3BC-8130E7D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2E3EC-B508-4CD2-B874-9FE16B33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1C32-C8F9-471D-872A-D838EAAE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27EF-FC7A-4CA7-8332-46C3EAF8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B553B-9528-4AC6-9FB1-9CB6B007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76A-74DD-414D-8A47-F8A39D70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0D2A-E311-416C-BE26-F612ED88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13C4A-AD43-4514-9267-D140EE39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B6671-C85B-4E0D-8C08-C91F5C1F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1E00-385B-4AC2-9E2E-E421CFFF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50601-F0EF-486C-AFEB-B582B274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8485-F93E-4DD0-BA69-B6BD89F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D990-6A7E-4ADF-B6AD-C139871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AC0A5-18C2-499F-9ED6-E396A28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AD1A-7E1B-45B7-BFF2-1C1B38EB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26DE9-0A31-4AB1-A785-29966D2C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384-C4B3-427B-B56D-89355D6D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6FAB-1E3E-4CF8-A63F-DCC1E043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83C7-24BA-4726-B80C-865AFC43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4517-6055-48B4-A115-92642A89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387D-B7A8-44FB-96CA-EB8A642F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70401-05B0-462B-B51F-FF9639B0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B93C0-A59C-4F51-9954-B337BE4B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39067-A998-4039-9AAC-8526EEF5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EAF99-EFC2-423D-8E0F-DBE1283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26D2-6356-4BB5-840E-47C9485F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6A0F8-8769-4234-B9E6-BB67F1DD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FC2-1588-454D-A4BB-2A4FBDCF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F60DB-17D6-4EEF-B69F-A5A816F0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FF886-5FBF-4EB3-BBB5-51418EE2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19491-0B81-493A-922C-56C420A9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CEBF3-9682-4F9B-AA1C-7E6A9CCA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C4769-F8A2-4A8B-9923-D198BBDB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E788-1171-427C-88B5-7FF718C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2F855-4EBC-4CCE-9490-26B20BA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F307-D3AF-4185-AC0F-78A1B4CB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D267C-93AD-4292-8C79-1C2188D5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512E-FF29-4252-8A57-E685837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151-512D-4A8B-B3CF-77959AEA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C162B-FB1D-445B-B976-3B841A0D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88A81-36B6-469B-B642-C4B1C857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FED0-1572-42A2-B2F2-CB8234EF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B9D21-D53A-49D9-82D1-6A2AFF49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9E785-FD95-4736-B37C-B70DFD53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AC9-6F37-4A29-93C4-5546E232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2BB0-5E36-464D-B4D1-1BD71D3E8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9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AC55-6CE0-4E87-B910-AAF8951BF5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6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B475-2CCB-47FE-821A-EA78E13F179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FCEE-3A42-40B0-8852-6BC7E9715A9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B8CD-37FD-4B90-B7F5-2CE4FEA28C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D6A2-B8CE-44B5-A851-EC517FA353F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66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D3D3-5AE0-4BB3-AC6F-110C29B07A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7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18960" y="35809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shadow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ca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fath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le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tel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hea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se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egrou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fore in time or pla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6" descr="forecast.jpg"/>
          <p:cNvPicPr/>
          <p:nvPr/>
        </p:nvPicPr>
        <p:blipFill>
          <a:blip r:embed="rId2"/>
          <a:stretch/>
        </p:blipFill>
        <p:spPr>
          <a:xfrm>
            <a:off x="3352680" y="297180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forehead.jpg"/>
          <p:cNvPicPr/>
          <p:nvPr/>
        </p:nvPicPr>
        <p:blipFill>
          <a:blip r:embed="rId3"/>
          <a:stretch/>
        </p:blipFill>
        <p:spPr>
          <a:xfrm>
            <a:off x="6629400" y="2666880"/>
            <a:ext cx="1638360" cy="1219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foreground.jpg"/>
          <p:cNvPicPr/>
          <p:nvPr/>
        </p:nvPicPr>
        <p:blipFill>
          <a:blip r:embed="rId4"/>
          <a:stretch/>
        </p:blipFill>
        <p:spPr>
          <a:xfrm>
            <a:off x="6400800" y="47242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forelegs.jpg"/>
          <p:cNvPicPr/>
          <p:nvPr/>
        </p:nvPicPr>
        <p:blipFill>
          <a:blip r:embed="rId5"/>
          <a:stretch/>
        </p:blipFill>
        <p:spPr>
          <a:xfrm>
            <a:off x="7391520" y="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e, G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poge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po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way; from; off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grap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logy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ogy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ience; study of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met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rige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cent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olat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ar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6" descr="apogee.jpg"/>
          <p:cNvPicPr/>
          <p:nvPr/>
        </p:nvPicPr>
        <p:blipFill>
          <a:blip r:embed="rId2"/>
          <a:stretch/>
        </p:blipFill>
        <p:spPr>
          <a:xfrm>
            <a:off x="5181480" y="251460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geometry.jpg"/>
          <p:cNvPicPr/>
          <p:nvPr/>
        </p:nvPicPr>
        <p:blipFill>
          <a:blip r:embed="rId3"/>
          <a:stretch/>
        </p:blipFill>
        <p:spPr>
          <a:xfrm>
            <a:off x="4800600" y="380880"/>
            <a:ext cx="1238400" cy="943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geometryy.jpg"/>
          <p:cNvPicPr/>
          <p:nvPr/>
        </p:nvPicPr>
        <p:blipFill>
          <a:blip r:embed="rId4"/>
          <a:stretch/>
        </p:blipFill>
        <p:spPr>
          <a:xfrm>
            <a:off x="7162920" y="228600"/>
            <a:ext cx="1562040" cy="1371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geography.jpg"/>
          <p:cNvPicPr/>
          <p:nvPr/>
        </p:nvPicPr>
        <p:blipFill>
          <a:blip r:embed="rId5"/>
          <a:stretch/>
        </p:blipFill>
        <p:spPr>
          <a:xfrm>
            <a:off x="2895480" y="5181480"/>
            <a:ext cx="1305000" cy="1409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apogeee.jpg"/>
          <p:cNvPicPr/>
          <p:nvPr/>
        </p:nvPicPr>
        <p:blipFill>
          <a:blip r:embed="rId6"/>
          <a:stretch/>
        </p:blipFill>
        <p:spPr>
          <a:xfrm>
            <a:off x="4419720" y="4267080"/>
            <a:ext cx="2361960" cy="2133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geology.jpg"/>
          <p:cNvPicPr/>
          <p:nvPr/>
        </p:nvPicPr>
        <p:blipFill>
          <a:blip r:embed="rId7"/>
          <a:stretch/>
        </p:blipFill>
        <p:spPr>
          <a:xfrm>
            <a:off x="7162920" y="4267080"/>
            <a:ext cx="175248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c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cto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ctoli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ct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hundred; characterized by a hundr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9" descr="hectometer.jpg"/>
          <p:cNvPicPr/>
          <p:nvPr/>
        </p:nvPicPr>
        <p:blipFill>
          <a:blip r:embed="rId2"/>
          <a:stretch/>
        </p:blipFill>
        <p:spPr>
          <a:xfrm>
            <a:off x="1219320" y="3429000"/>
            <a:ext cx="1199880" cy="228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hectogramm.jpg"/>
          <p:cNvPicPr/>
          <p:nvPr/>
        </p:nvPicPr>
        <p:blipFill>
          <a:blip r:embed="rId3"/>
          <a:stretch/>
        </p:blipFill>
        <p:spPr>
          <a:xfrm>
            <a:off x="3809880" y="26668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hectoliter.jpg"/>
          <p:cNvPicPr/>
          <p:nvPr/>
        </p:nvPicPr>
        <p:blipFill>
          <a:blip r:embed="rId4"/>
          <a:stretch/>
        </p:blipFill>
        <p:spPr>
          <a:xfrm>
            <a:off x="3505320" y="457200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hectoliterr.jpg"/>
          <p:cNvPicPr/>
          <p:nvPr/>
        </p:nvPicPr>
        <p:blipFill>
          <a:blip r:embed="rId5"/>
          <a:stretch/>
        </p:blipFill>
        <p:spPr>
          <a:xfrm>
            <a:off x="6095880" y="3657600"/>
            <a:ext cx="21909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m, Hemo, -Em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2832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al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al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 or pertaining to; characterized by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orrh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uk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x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ophil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lyc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ost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loo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6" descr="hemophilia.jpg"/>
          <p:cNvPicPr/>
          <p:nvPr/>
        </p:nvPicPr>
        <p:blipFill>
          <a:blip r:embed="rId2"/>
          <a:stretch/>
        </p:blipFill>
        <p:spPr>
          <a:xfrm>
            <a:off x="3809880" y="3200400"/>
            <a:ext cx="2210040" cy="1523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hemophiliaa.jpg"/>
          <p:cNvPicPr/>
          <p:nvPr/>
        </p:nvPicPr>
        <p:blipFill>
          <a:blip r:embed="rId3"/>
          <a:stretch/>
        </p:blipFill>
        <p:spPr>
          <a:xfrm>
            <a:off x="6705720" y="25909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hemostat.jpg"/>
          <p:cNvPicPr/>
          <p:nvPr/>
        </p:nvPicPr>
        <p:blipFill>
          <a:blip r:embed="rId4"/>
          <a:stretch/>
        </p:blipFill>
        <p:spPr>
          <a:xfrm>
            <a:off x="3733920" y="502920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anemia.jpg"/>
          <p:cNvPicPr/>
          <p:nvPr/>
        </p:nvPicPr>
        <p:blipFill>
          <a:blip r:embed="rId5"/>
          <a:stretch/>
        </p:blipFill>
        <p:spPr>
          <a:xfrm>
            <a:off x="6324480" y="152280"/>
            <a:ext cx="2590920" cy="1447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rupt.jpg"/>
          <p:cNvPicPr/>
          <p:nvPr/>
        </p:nvPicPr>
        <p:blipFill>
          <a:blip r:embed="rId6"/>
          <a:stretch/>
        </p:blipFill>
        <p:spPr>
          <a:xfrm>
            <a:off x="7162920" y="5181480"/>
            <a:ext cx="1590480" cy="1219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mi (semi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sphe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card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cyc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demisemiquaver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demi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alf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mis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l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7" descr="hemidemisemiquaver.jpg"/>
          <p:cNvPicPr/>
          <p:nvPr/>
        </p:nvPicPr>
        <p:blipFill>
          <a:blip r:embed="rId2"/>
          <a:stretch/>
        </p:blipFill>
        <p:spPr>
          <a:xfrm>
            <a:off x="3733920" y="4800600"/>
            <a:ext cx="1447560" cy="1523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hemidemisemiquaverr.jpg"/>
          <p:cNvPicPr/>
          <p:nvPr/>
        </p:nvPicPr>
        <p:blipFill>
          <a:blip r:embed="rId3"/>
          <a:stretch/>
        </p:blipFill>
        <p:spPr>
          <a:xfrm>
            <a:off x="5105520" y="320040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hemisphere.jpg"/>
          <p:cNvPicPr/>
          <p:nvPr/>
        </p:nvPicPr>
        <p:blipFill>
          <a:blip r:embed="rId4"/>
          <a:stretch/>
        </p:blipFill>
        <p:spPr>
          <a:xfrm>
            <a:off x="7086600" y="23623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emicycle.jpg"/>
          <p:cNvPicPr/>
          <p:nvPr/>
        </p:nvPicPr>
        <p:blipFill>
          <a:blip r:embed="rId5"/>
          <a:stretch/>
        </p:blipFill>
        <p:spPr>
          <a:xfrm>
            <a:off x="7543800" y="228600"/>
            <a:ext cx="1200240" cy="1257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hemisperee.jpg"/>
          <p:cNvPicPr/>
          <p:nvPr/>
        </p:nvPicPr>
        <p:blipFill>
          <a:blip r:embed="rId6"/>
          <a:stretch/>
        </p:blipFill>
        <p:spPr>
          <a:xfrm>
            <a:off x="7315200" y="4343400"/>
            <a:ext cx="140004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pt, Hep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ptarc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ptag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ptahedr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2428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8" descr="heptahedron.jpg"/>
          <p:cNvPicPr/>
          <p:nvPr/>
        </p:nvPicPr>
        <p:blipFill>
          <a:blip r:embed="rId2"/>
          <a:stretch/>
        </p:blipFill>
        <p:spPr>
          <a:xfrm>
            <a:off x="990720" y="3809880"/>
            <a:ext cx="1981080" cy="2286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eptagon.jpg"/>
          <p:cNvPicPr/>
          <p:nvPr/>
        </p:nvPicPr>
        <p:blipFill>
          <a:blip r:embed="rId3"/>
          <a:stretch/>
        </p:blipFill>
        <p:spPr>
          <a:xfrm>
            <a:off x="3733920" y="4267080"/>
            <a:ext cx="1942920" cy="2133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eptagonn.jpg"/>
          <p:cNvPicPr/>
          <p:nvPr/>
        </p:nvPicPr>
        <p:blipFill>
          <a:blip r:embed="rId4"/>
          <a:stretch/>
        </p:blipFill>
        <p:spPr>
          <a:xfrm>
            <a:off x="6248520" y="27432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heptahedronn.jpg"/>
          <p:cNvPicPr/>
          <p:nvPr/>
        </p:nvPicPr>
        <p:blipFill>
          <a:blip r:embed="rId5"/>
          <a:stretch/>
        </p:blipFill>
        <p:spPr>
          <a:xfrm>
            <a:off x="67816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x, Hex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75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ngul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g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hedr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po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xarc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57800" y="159984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11" descr="hexapodd.jpg"/>
          <p:cNvPicPr/>
          <p:nvPr/>
        </p:nvPicPr>
        <p:blipFill>
          <a:blip r:embed="rId2"/>
          <a:stretch/>
        </p:blipFill>
        <p:spPr>
          <a:xfrm>
            <a:off x="914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exapod.jpg"/>
          <p:cNvPicPr/>
          <p:nvPr/>
        </p:nvPicPr>
        <p:blipFill>
          <a:blip r:embed="rId3"/>
          <a:stretch/>
        </p:blipFill>
        <p:spPr>
          <a:xfrm>
            <a:off x="3124080" y="5181480"/>
            <a:ext cx="1638360" cy="1447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hexagon.jpg"/>
          <p:cNvPicPr/>
          <p:nvPr/>
        </p:nvPicPr>
        <p:blipFill>
          <a:blip r:embed="rId4"/>
          <a:stretch/>
        </p:blipFill>
        <p:spPr>
          <a:xfrm>
            <a:off x="5334120" y="51055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hexangular.jpg"/>
          <p:cNvPicPr/>
          <p:nvPr/>
        </p:nvPicPr>
        <p:blipFill>
          <a:blip r:embed="rId5"/>
          <a:stretch/>
        </p:blipFill>
        <p:spPr>
          <a:xfrm>
            <a:off x="7315200" y="4724280"/>
            <a:ext cx="1619280" cy="1524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hexangularr.jpg"/>
          <p:cNvPicPr/>
          <p:nvPr/>
        </p:nvPicPr>
        <p:blipFill>
          <a:blip r:embed="rId6"/>
          <a:stretch/>
        </p:blipFill>
        <p:spPr>
          <a:xfrm>
            <a:off x="3733920" y="35812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hexahedronn.jpg"/>
          <p:cNvPicPr/>
          <p:nvPr/>
        </p:nvPicPr>
        <p:blipFill>
          <a:blip r:embed="rId7"/>
          <a:stretch/>
        </p:blipFill>
        <p:spPr>
          <a:xfrm>
            <a:off x="3809880" y="198108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hexapoddd.jpg"/>
          <p:cNvPicPr/>
          <p:nvPr/>
        </p:nvPicPr>
        <p:blipFill>
          <a:blip r:embed="rId8"/>
          <a:stretch/>
        </p:blipFill>
        <p:spPr>
          <a:xfrm>
            <a:off x="6195960" y="2666880"/>
            <a:ext cx="210996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hexhagedron.jpg"/>
          <p:cNvPicPr/>
          <p:nvPr/>
        </p:nvPicPr>
        <p:blipFill>
          <a:blip r:embed="rId9"/>
          <a:stretch/>
        </p:blipFill>
        <p:spPr>
          <a:xfrm>
            <a:off x="7086600" y="152280"/>
            <a:ext cx="1771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09-10-15T21:16:28Z</dcterms:modified>
  <cp:revision>33</cp:revision>
  <dc:subject/>
  <dc:title>Roots List #1</dc:title>
</cp:coreProperties>
</file>